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1D0-5903-48B6-B4C7-E1ED5442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CFE-ADB4-45A1-9936-F84954B2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2D1-E38D-4E93-BA19-A31193CE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AD0-AB40-49D9-83C9-F72056E6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F7F-6BFB-4F32-AA8A-6A873096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EEDA-798E-4E8F-A2BC-64C51FB0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30C-754E-4F2A-870A-217FF129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8FBF-B3B5-48B4-8F60-92DEEA43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11A8-037B-4BB2-9E99-93BD053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6773-C8B1-413A-9DB7-BF7564F8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4155-AFF2-4B6B-B904-9CEDA72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91D-0CD8-41DB-A6C1-D2C6533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8A39-3EE2-4A7C-8085-339C097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3D34-EE30-41EE-949F-5EF509B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6BBE-7948-454C-9D33-8C02B0D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90F0-6B5C-4E78-84B0-7F3C3E89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A094-E2E8-45CE-8435-7043A9AB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923-3320-4AD3-96FD-181B553F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E59-0691-498C-A4FD-492DF67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9F5-3138-4B25-9750-85F9E581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D5D-39AF-4E7F-ADB4-BC0840FD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22A-8E7F-47D3-908E-C21D2773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9EF-FDCF-43C4-9A7C-1304A6A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1F4-2A8B-4201-95A7-C9DD9E1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F1C3-0236-446F-8748-9BB7FD0147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F24A-DB3E-4FB5-AB90-AA14CF9BA6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Lesson 6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School or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cho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boys from wealthy families attended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free days each mo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d cunei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:  “the man in charge of the whip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t-house: school bui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-father: chief te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rother”: assistant who wrote out assignments and checked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verb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rbs: wise say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Do not write these in your notes, just be familiar with th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weet word is everybody’s frien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ving heart builds the home; a hating heart destroys the hom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cribe whose hand moves as fast as the mouth, that’s a scribe for you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me Lif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y slept on ro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ses made of m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 stayed home and learned housekee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ys learned trades or skills from fathers and went to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ages were 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ipline was har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ed musical instruments in the ev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erian Instr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209680" cy="333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7680" cy="279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62520" y="4191120"/>
            <a:ext cx="1304640" cy="2409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990720" y="5105520"/>
            <a:ext cx="108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y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238880" y="4648320"/>
            <a:ext cx="11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024440" y="3108240"/>
            <a:ext cx="1095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umbering the Yea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C.:  Stands for “before Chri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D.:  stands for anno domini, which means “in the year of the Lor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C. comes after the year (43 B.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D. comes before the year (A.D. 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2:59:10Z</dcterms:created>
  <dc:creator>erin.hendricks</dc:creator>
  <dc:description/>
  <dc:language>en-US</dc:language>
  <cp:lastModifiedBy>erin.hendricks</cp:lastModifiedBy>
  <dcterms:modified xsi:type="dcterms:W3CDTF">2011-08-31T13:16:15Z</dcterms:modified>
  <cp:revision>2</cp:revision>
  <dc:subject/>
  <dc:title>Lesson 6</dc:title>
</cp:coreProperties>
</file>